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6A8-4D17-4DE4-9971-8EAE719A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FA8-083A-45A4-B4DA-D72E17F1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C06-F40B-412D-A6DE-970A1ED2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FE8-AFD6-4B2A-BEE5-C624BB02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727-2209-4FB9-888F-1510E73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AFC-5765-4353-9789-0F16FDE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ABB-F38D-4182-9D78-5583ADD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85E-5302-4C73-A073-8A3EEB54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EE9-CAB0-42BF-9676-0DC1BFA7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AD8-1B1A-4982-865C-21B10BA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59A-8044-435E-9146-EABA541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4E6-B00D-4B10-AF74-28A43C0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C130-97EF-4893-AE2B-36516B49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08920" y="2133000"/>
            <a:ext cx="455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Resumen de fórmulas de las leyes de los gases ideal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39760" y="2448000"/>
          <a:ext cx="5559480" cy="1825560"/>
        </p:xfrm>
        <a:graphic>
          <a:graphicData uri="http://schemas.openxmlformats.org/drawingml/2006/table">
            <a:tbl>
              <a:tblPr/>
              <a:tblGrid>
                <a:gridCol w="2228760"/>
                <a:gridCol w="1657440"/>
                <a:gridCol w="16732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Nombre de la l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agnitud cons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xpresión de la l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de Boy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⋅ 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⋅ 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de Char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 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 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de Gay-Luss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Volu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 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 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general de los gases ide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⋅ 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=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⋅ V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/ T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general de los gases ide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= 0,082 atm ⋅ l/mol ⋅ 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 ⋅ V  = n ⋅ R 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⋅ 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y de Dalton, (presiones parcial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emperatura y volu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 =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ES_tradnl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+ P</a:t>
                      </a:r>
                      <a:r>
                        <a:rPr b="0" lang="es-ES_tradnl" sz="1100" spc="-1" strike="noStrike" baseline="-30000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65360" y="4292280"/>
            <a:ext cx="627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Arial"/>
                <a:ea typeface="Times New Roman"/>
              </a:rPr>
              <a:t>P: presión, V: volumen, T: temperatura, n: número de moles, R: constante universal gases ide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32:04Z</dcterms:created>
  <dc:creator>adv</dc:creator>
  <dc:description/>
  <dc:language>en-US</dc:language>
  <cp:lastModifiedBy>adv</cp:lastModifiedBy>
  <dcterms:modified xsi:type="dcterms:W3CDTF">2008-08-11T17:21:51Z</dcterms:modified>
  <cp:revision>7</cp:revision>
  <dc:subject/>
  <dc:title>Diapositiva 1</dc:title>
</cp:coreProperties>
</file>